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280-8FDF-4C54-A32F-30E08D74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6BA-0D23-41E9-B8F2-F6D6C25D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F96-6324-42E4-942B-56725F12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6B2-49F8-4E30-9724-E8C3FF81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D9C8-402B-4B8B-B309-E95E18E7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D83D-9FDA-4F17-81C5-08D545AF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4F60-4602-47BC-8EAE-769FEAA6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AD37-95FF-448B-8677-DE0F8743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ECEE-E55C-40EC-A61F-4209FFBB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156F-A9E5-4F1E-8152-6E3A8E0C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CA6D-438A-4882-8D46-5D41528D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81D-8932-4F64-A267-3509BF2C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4099-9129-49E0-B322-607FFC99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C8A5-084B-400A-A97A-D0515B3C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1F9E-11E6-4915-989D-0E09B762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9E58-6C9C-436D-9ABF-9BA56373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40CC-3531-4C5D-8D69-3BACC2AF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A4C-0385-487C-A996-5CDDE2D3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9020-FBD0-4619-8228-D9C83484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5DE-DEB9-46D4-BB42-0A017698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06D-5556-4820-9952-0917C10D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5473-33F2-47BC-8F28-20C37BF2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343-0D75-4BA9-9601-5C0FD567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96C-5245-4F86-8179-9AF16C9B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B5A9-4175-4F15-9D1D-F0689192F7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1BB4-52BB-465D-A1C8-EC6AEFAB37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page?q=1665537696&amp;p=11&amp;ag=ih&amp;rpt2=simage&amp;qs=text%3D%25F0%25C5%25D4%25D2%2B%25F7%25C5%25CC%25C9%25CB%25C9%25CA%26isize%3D%26ogo%3D5%26rpt%3Dimage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067280" y="404280"/>
            <a:ext cx="46195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устье реки Невы , Петр основал САНКТ-ПЕТЕРБУ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род стал новой столицей России и ее морскими ворот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юда прибывали торговые корабли под флагами разных стр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052640"/>
            <a:ext cx="3456000" cy="465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95640" y="58770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нкт-Петербург – город Святого Петра (христианского покровителя Петр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1721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года Петр стал 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императором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ссию стали называть импер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ступили новые времена в истории нашей страны –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времена Российской импе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Ы НА ГРАНИТНОЙ НАБЕРЕЖНОЙ ХХ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ВЕК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Санкт-Петербург Университетская набережная Сфинкс"/>
          <p:cNvPicPr/>
          <p:nvPr/>
        </p:nvPicPr>
        <p:blipFill>
          <a:blip r:embed="rId2"/>
          <a:stretch/>
        </p:blipFill>
        <p:spPr>
          <a:xfrm>
            <a:off x="324000" y="1916280"/>
            <a:ext cx="8496000" cy="460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 rot="237600">
            <a:off x="6516360" y="3355560"/>
            <a:ext cx="1798560" cy="2398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979640" y="4221000"/>
            <a:ext cx="1584360" cy="2078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04000" y="64911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дный всад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09:11:52Z</dcterms:created>
  <dc:creator>Администратор</dc:creator>
  <dc:description/>
  <dc:language>en-US</dc:language>
  <cp:lastModifiedBy>Марина</cp:lastModifiedBy>
  <dcterms:modified xsi:type="dcterms:W3CDTF">2007-12-17T16:47:17Z</dcterms:modified>
  <cp:revision>3</cp:revision>
  <dc:subject/>
  <dc:title>Слайд 1</dc:title>
</cp:coreProperties>
</file>